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1C7-8D61-4715-A3AA-0202103F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71B-9207-4C17-BA64-9572F8D8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B13-3232-490A-9FDF-C4F651C8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397-FA33-40E7-913E-EE40DA6E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D12D-B7BE-44B5-84B0-FDA6C944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F3A6-9EE0-4000-B92E-EC73C73D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A266-B2D6-408D-BB96-1FC5D2E8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6B19-5163-4844-885B-C7113145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CEC7-1A27-4DCF-BE13-F08DEF60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0657-0559-4D71-9CAD-E08F6B6F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8471-D100-473C-AC91-35755DA9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948-7049-4826-A0B9-9259ED17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73D9-338E-40C4-8EA5-5C46178A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0FB1-F426-4C06-9E42-412383AD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708B-8430-41FE-9904-8F3C2088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698-9542-4CF1-9F72-D4F5AAC4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42A-4367-491D-A59D-4DEFA26C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454-1DDF-4D0C-8813-DFDA8E52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FE7-A90E-4E07-A66A-BFCB5036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75C-85E1-4918-A914-A804A53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761-AEBA-47BF-B0AF-6080827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1C9-2595-4747-B55C-85BADDC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0DD-4AE6-42F7-8466-B1B2D842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DA9-59C5-43B6-8DE6-9F4D7026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2DB-E5DB-4DF7-A183-98FB8D2332B2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97D4-DDD7-409C-9555-D3F92490D633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diagrama H-Q la ventilación natural se representa por una línea horizont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916360" y="249192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6021360"/>
            <a:ext cx="34560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602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242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16360" y="4221000"/>
            <a:ext cx="223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4221000"/>
            <a:ext cx="0" cy="1800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21040" y="3070080"/>
            <a:ext cx="3060720" cy="2936880"/>
          </a:xfrm>
          <a:custGeom>
            <a:avLst/>
            <a:gdLst/>
            <a:ahLst/>
            <a:rect l="l" t="t" r="r" b="b"/>
            <a:pathLst>
              <a:path w="1928" h="1850">
                <a:moveTo>
                  <a:pt x="0" y="1850"/>
                </a:moveTo>
                <a:cubicBezTo>
                  <a:pt x="40" y="1844"/>
                  <a:pt x="108" y="1842"/>
                  <a:pt x="144" y="1818"/>
                </a:cubicBezTo>
                <a:cubicBezTo>
                  <a:pt x="179" y="1795"/>
                  <a:pt x="205" y="1779"/>
                  <a:pt x="240" y="1762"/>
                </a:cubicBezTo>
                <a:cubicBezTo>
                  <a:pt x="268" y="1748"/>
                  <a:pt x="286" y="1723"/>
                  <a:pt x="312" y="1706"/>
                </a:cubicBezTo>
                <a:cubicBezTo>
                  <a:pt x="358" y="1637"/>
                  <a:pt x="297" y="1718"/>
                  <a:pt x="352" y="1674"/>
                </a:cubicBezTo>
                <a:cubicBezTo>
                  <a:pt x="404" y="1633"/>
                  <a:pt x="332" y="1662"/>
                  <a:pt x="392" y="1642"/>
                </a:cubicBezTo>
                <a:cubicBezTo>
                  <a:pt x="428" y="1606"/>
                  <a:pt x="511" y="1530"/>
                  <a:pt x="560" y="1514"/>
                </a:cubicBezTo>
                <a:cubicBezTo>
                  <a:pt x="589" y="1485"/>
                  <a:pt x="625" y="1463"/>
                  <a:pt x="664" y="1450"/>
                </a:cubicBezTo>
                <a:cubicBezTo>
                  <a:pt x="702" y="1394"/>
                  <a:pt x="798" y="1361"/>
                  <a:pt x="856" y="1322"/>
                </a:cubicBezTo>
                <a:cubicBezTo>
                  <a:pt x="887" y="1275"/>
                  <a:pt x="950" y="1269"/>
                  <a:pt x="992" y="1234"/>
                </a:cubicBezTo>
                <a:cubicBezTo>
                  <a:pt x="1001" y="1227"/>
                  <a:pt x="1007" y="1217"/>
                  <a:pt x="1016" y="1210"/>
                </a:cubicBezTo>
                <a:cubicBezTo>
                  <a:pt x="1031" y="1198"/>
                  <a:pt x="1064" y="1178"/>
                  <a:pt x="1064" y="1178"/>
                </a:cubicBezTo>
                <a:cubicBezTo>
                  <a:pt x="1080" y="1131"/>
                  <a:pt x="1124" y="1129"/>
                  <a:pt x="1152" y="1082"/>
                </a:cubicBezTo>
                <a:cubicBezTo>
                  <a:pt x="1181" y="1034"/>
                  <a:pt x="1163" y="1051"/>
                  <a:pt x="1200" y="1026"/>
                </a:cubicBezTo>
                <a:cubicBezTo>
                  <a:pt x="1278" y="909"/>
                  <a:pt x="1362" y="799"/>
                  <a:pt x="1440" y="682"/>
                </a:cubicBezTo>
                <a:cubicBezTo>
                  <a:pt x="1448" y="669"/>
                  <a:pt x="1463" y="662"/>
                  <a:pt x="1472" y="650"/>
                </a:cubicBezTo>
                <a:cubicBezTo>
                  <a:pt x="1527" y="576"/>
                  <a:pt x="1454" y="659"/>
                  <a:pt x="1496" y="586"/>
                </a:cubicBezTo>
                <a:cubicBezTo>
                  <a:pt x="1509" y="563"/>
                  <a:pt x="1544" y="522"/>
                  <a:pt x="1544" y="522"/>
                </a:cubicBezTo>
                <a:cubicBezTo>
                  <a:pt x="1561" y="472"/>
                  <a:pt x="1587" y="416"/>
                  <a:pt x="1632" y="386"/>
                </a:cubicBezTo>
                <a:cubicBezTo>
                  <a:pt x="1665" y="337"/>
                  <a:pt x="1685" y="284"/>
                  <a:pt x="1736" y="250"/>
                </a:cubicBezTo>
                <a:cubicBezTo>
                  <a:pt x="1761" y="212"/>
                  <a:pt x="1772" y="186"/>
                  <a:pt x="1808" y="162"/>
                </a:cubicBezTo>
                <a:cubicBezTo>
                  <a:pt x="1845" y="106"/>
                  <a:pt x="1824" y="125"/>
                  <a:pt x="1864" y="98"/>
                </a:cubicBezTo>
                <a:cubicBezTo>
                  <a:pt x="1880" y="74"/>
                  <a:pt x="1903" y="53"/>
                  <a:pt x="1912" y="26"/>
                </a:cubicBezTo>
                <a:cubicBezTo>
                  <a:pt x="1915" y="18"/>
                  <a:pt x="1915" y="9"/>
                  <a:pt x="1920" y="2"/>
                </a:cubicBezTo>
                <a:cubicBezTo>
                  <a:pt x="1921" y="0"/>
                  <a:pt x="1925" y="2"/>
                  <a:pt x="1928" y="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602136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407664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611280" y="692280"/>
            <a:ext cx="3816000" cy="3366000"/>
            <a:chOff x="611280" y="692280"/>
            <a:chExt cx="3816000" cy="3366000"/>
          </a:xfrm>
        </p:grpSpPr>
        <p:sp>
          <p:nvSpPr>
            <p:cNvPr id="258" name=""/>
            <p:cNvSpPr/>
            <p:nvPr/>
          </p:nvSpPr>
          <p:spPr>
            <a:xfrm flipV="1">
              <a:off x="1288440" y="752040"/>
              <a:ext cx="0" cy="2968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8440" y="3720960"/>
              <a:ext cx="295416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88440" y="1418760"/>
              <a:ext cx="1477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8440" y="2629800"/>
              <a:ext cx="1846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88440" y="3174840"/>
              <a:ext cx="2154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03960" y="1418760"/>
              <a:ext cx="707040" cy="176004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04400" y="1418760"/>
              <a:ext cx="762480" cy="174132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6240" y="1176840"/>
              <a:ext cx="49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3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95800" y="305460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6440" y="2569680"/>
              <a:ext cx="6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4)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43400" y="299448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1280" y="1115640"/>
              <a:ext cx="4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1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7160" y="2994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1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7160" y="2569680"/>
              <a:ext cx="36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1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8240" y="1236960"/>
              <a:ext cx="43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(b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88440" y="2872800"/>
              <a:ext cx="1846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88440" y="1963440"/>
              <a:ext cx="1415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03960" y="1963440"/>
              <a:ext cx="698760" cy="121788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88440" y="1721880"/>
              <a:ext cx="9849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45320" y="1749600"/>
              <a:ext cx="408240" cy="143172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3400" y="1721880"/>
              <a:ext cx="43020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8240" y="2751480"/>
              <a:ext cx="36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81120" y="2751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48840" y="1479960"/>
              <a:ext cx="3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42760" y="178056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56840" y="372096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280" y="69228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427640" y="1484280"/>
            <a:ext cx="1663200" cy="1911960"/>
            <a:chOff x="4427640" y="1484280"/>
            <a:chExt cx="1663200" cy="1911960"/>
          </a:xfrm>
        </p:grpSpPr>
        <p:sp>
          <p:nvSpPr>
            <p:cNvPr id="286" name=""/>
            <p:cNvSpPr/>
            <p:nvPr/>
          </p:nvSpPr>
          <p:spPr>
            <a:xfrm>
              <a:off x="4905360" y="3144600"/>
              <a:ext cx="815400" cy="349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73520" y="305892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1120" y="29984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81320" y="1968480"/>
              <a:ext cx="699840" cy="121752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22680" y="1753920"/>
              <a:ext cx="409320" cy="143208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51120" y="1726920"/>
              <a:ext cx="42984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27640" y="148428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21200" y="1785600"/>
              <a:ext cx="36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84963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Area de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Lo que interesa es aumentar esta áre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Para aumentar la altura se debe profundizar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El aumento de ancho dependerá del mayor aumento de la temperatur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300720" y="1916280"/>
            <a:ext cx="2664000" cy="1452600"/>
            <a:chOff x="6300720" y="1916280"/>
            <a:chExt cx="2664000" cy="1452600"/>
          </a:xfrm>
        </p:grpSpPr>
        <p:sp>
          <p:nvSpPr>
            <p:cNvPr id="296" name=""/>
            <p:cNvSpPr/>
            <p:nvPr/>
          </p:nvSpPr>
          <p:spPr>
            <a:xfrm>
              <a:off x="65761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36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3640" y="2958120"/>
              <a:ext cx="183744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76120" y="3084120"/>
              <a:ext cx="211320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86893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5514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72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8824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43600" y="2957400"/>
              <a:ext cx="27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0720" y="300060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1258920" y="2421000"/>
          <a:ext cx="6095880" cy="2671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Profundidad de la Mina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Depresión Natural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400 – 5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25 – 30  mm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700 – 8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50 – 60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0 – 20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 – 120 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1. Generalidad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ventilación natural es utilizada en muchos casos como sistema únic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s cambiante, depende de la época del año, en algunos casos, del día y de la noch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s diferencias de presión entre la entrada y la salida son provocados por el intercambio termodinámico que se produce entre la superficie y el interior de una m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energía térmica agregada al sistema se transforma a energía de presión, y produce flujo de aire. (por ejemplo el fenómeno de una chimenea dónde el aire caliente sube y se desplaza al aire frío produciendo circulación de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2. Ventilación Natural : Caso Mina Id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pérdida de fricción ni choque (H=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os procesos al interior de la mina son adiabático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abrá entrega de calor en la explotación de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evaporación ni se agrega gases al ai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resión atmosférica es la misma en los 2 brocales de los pique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3716280"/>
            <a:ext cx="2879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933720"/>
            <a:ext cx="3311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356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96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1 -  2   Compresión adiabática producida por cambio de presió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2  - 3   Expansión a presión constan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3  - 4´  Expansión adiabática hasta el broc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4´  Expansión en el brocal a la presión atmosférica ( Esta es la presión de ventilación natural 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1  Compresión a presión constante, el aire arroja su calor hasta alcanzar su temperatura atmosfér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55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789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 a-1-2-b-a  = cambio de energía potencial y es igual al área b-3-4´-c-b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c-4´-4-a-c--=  área  1-2-3-4-1 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– 4´ Presión de Ventilación 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3933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55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ueg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n = L * ( z1 – z2 ) = p1 – p2   mm c.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    L = altura del pozo (pique)  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z1  y z2  pesos específicos medios del aire en los pozos de aire entrante y saliente   en Kg/m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1  y p2 = presiones de las corrientes entrante y saliente en la profundidad 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El peso específico del aire   z= 0,465*p / 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T es la temperatura absoluta en °K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 es la presión   mm de mercuri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as presiones p1  y p2 se determinan por las fórmul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1 = log p0 + 0,015 L/T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2 = log p0 + 0,015 L/T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T1 y T2 son las temperaturas medias absolutas del aire entrante y salie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2 mediciones por pozo son suficien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3. Ventilación Natural : Caso Mina R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 tienen pérdida por fricción y por choque (H distinto de 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osibilidad de entregar trabajo disminuye y la Presión de Ventilación (4´) tambié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3640" y="301896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654840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81168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5251320"/>
            <a:ext cx="216036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5899320"/>
            <a:ext cx="252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811680"/>
            <a:ext cx="827280" cy="209232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3811680"/>
            <a:ext cx="892080" cy="207000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52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8920" y="5756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518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4)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5683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45132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98920" y="568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8920" y="5180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35956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5540400"/>
            <a:ext cx="2160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445932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4459320"/>
            <a:ext cx="817560" cy="1447920"/>
          </a:xfrm>
          <a:custGeom>
            <a:avLst/>
            <a:gdLst/>
            <a:ahLst/>
            <a:rect l="l" t="t" r="r" b="b"/>
            <a:pathLst>
              <a:path w="880" h="1072">
                <a:moveTo>
                  <a:pt x="880" y="1072"/>
                </a:moveTo>
                <a:cubicBezTo>
                  <a:pt x="854" y="1055"/>
                  <a:pt x="842" y="1033"/>
                  <a:pt x="816" y="1016"/>
                </a:cubicBezTo>
                <a:cubicBezTo>
                  <a:pt x="811" y="1008"/>
                  <a:pt x="807" y="999"/>
                  <a:pt x="800" y="992"/>
                </a:cubicBezTo>
                <a:cubicBezTo>
                  <a:pt x="793" y="985"/>
                  <a:pt x="782" y="984"/>
                  <a:pt x="776" y="976"/>
                </a:cubicBezTo>
                <a:cubicBezTo>
                  <a:pt x="771" y="969"/>
                  <a:pt x="772" y="960"/>
                  <a:pt x="768" y="952"/>
                </a:cubicBezTo>
                <a:cubicBezTo>
                  <a:pt x="751" y="918"/>
                  <a:pt x="755" y="935"/>
                  <a:pt x="728" y="912"/>
                </a:cubicBezTo>
                <a:cubicBezTo>
                  <a:pt x="719" y="905"/>
                  <a:pt x="713" y="895"/>
                  <a:pt x="704" y="888"/>
                </a:cubicBezTo>
                <a:cubicBezTo>
                  <a:pt x="689" y="876"/>
                  <a:pt x="656" y="856"/>
                  <a:pt x="656" y="856"/>
                </a:cubicBezTo>
                <a:cubicBezTo>
                  <a:pt x="636" y="825"/>
                  <a:pt x="611" y="823"/>
                  <a:pt x="584" y="800"/>
                </a:cubicBezTo>
                <a:cubicBezTo>
                  <a:pt x="545" y="768"/>
                  <a:pt x="496" y="735"/>
                  <a:pt x="464" y="696"/>
                </a:cubicBezTo>
                <a:cubicBezTo>
                  <a:pt x="428" y="653"/>
                  <a:pt x="464" y="691"/>
                  <a:pt x="440" y="648"/>
                </a:cubicBezTo>
                <a:cubicBezTo>
                  <a:pt x="425" y="621"/>
                  <a:pt x="407" y="595"/>
                  <a:pt x="392" y="568"/>
                </a:cubicBezTo>
                <a:cubicBezTo>
                  <a:pt x="361" y="514"/>
                  <a:pt x="320" y="465"/>
                  <a:pt x="296" y="408"/>
                </a:cubicBezTo>
                <a:cubicBezTo>
                  <a:pt x="274" y="358"/>
                  <a:pt x="255" y="304"/>
                  <a:pt x="208" y="272"/>
                </a:cubicBezTo>
                <a:cubicBezTo>
                  <a:pt x="196" y="255"/>
                  <a:pt x="180" y="241"/>
                  <a:pt x="168" y="224"/>
                </a:cubicBezTo>
                <a:cubicBezTo>
                  <a:pt x="163" y="217"/>
                  <a:pt x="165" y="207"/>
                  <a:pt x="160" y="200"/>
                </a:cubicBezTo>
                <a:cubicBezTo>
                  <a:pt x="146" y="180"/>
                  <a:pt x="129" y="162"/>
                  <a:pt x="112" y="144"/>
                </a:cubicBezTo>
                <a:cubicBezTo>
                  <a:pt x="94" y="124"/>
                  <a:pt x="56" y="88"/>
                  <a:pt x="56" y="88"/>
                </a:cubicBezTo>
                <a:cubicBezTo>
                  <a:pt x="44" y="51"/>
                  <a:pt x="17" y="33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4172040"/>
            <a:ext cx="1152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2880" y="4205160"/>
            <a:ext cx="477720" cy="1702080"/>
          </a:xfrm>
          <a:custGeom>
            <a:avLst/>
            <a:gdLst/>
            <a:ahLst/>
            <a:rect l="l" t="t" r="r" b="b"/>
            <a:pathLst>
              <a:path w="301" h="1072">
                <a:moveTo>
                  <a:pt x="301" y="1072"/>
                </a:moveTo>
                <a:cubicBezTo>
                  <a:pt x="296" y="1056"/>
                  <a:pt x="294" y="1038"/>
                  <a:pt x="285" y="1024"/>
                </a:cubicBezTo>
                <a:cubicBezTo>
                  <a:pt x="280" y="1016"/>
                  <a:pt x="273" y="1009"/>
                  <a:pt x="269" y="1000"/>
                </a:cubicBezTo>
                <a:cubicBezTo>
                  <a:pt x="249" y="955"/>
                  <a:pt x="237" y="903"/>
                  <a:pt x="221" y="856"/>
                </a:cubicBezTo>
                <a:cubicBezTo>
                  <a:pt x="199" y="790"/>
                  <a:pt x="190" y="723"/>
                  <a:pt x="173" y="656"/>
                </a:cubicBezTo>
                <a:cubicBezTo>
                  <a:pt x="148" y="556"/>
                  <a:pt x="110" y="460"/>
                  <a:pt x="85" y="360"/>
                </a:cubicBezTo>
                <a:cubicBezTo>
                  <a:pt x="65" y="280"/>
                  <a:pt x="39" y="199"/>
                  <a:pt x="13" y="120"/>
                </a:cubicBezTo>
                <a:cubicBezTo>
                  <a:pt x="0" y="82"/>
                  <a:pt x="13" y="40"/>
                  <a:pt x="13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4172040"/>
            <a:ext cx="5032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164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38829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424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6548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2948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30T01:50:00Z</dcterms:modified>
  <cp:revision>33</cp:revision>
  <dc:subject/>
  <dc:title>VENTILADORES DE MINAS</dc:title>
</cp:coreProperties>
</file>